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wmf" ContentType="image/x-wmf"/>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B51C6-1EF8-4AC1-8E34-4A6E0BE08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E326-C9B5-4865-9ED8-8F2C6B1C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3C7C9-FA27-4CE7-AF4D-C5A1D1620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B6667-0E63-4338-8AB6-DACAFBD77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2A8A0-D28D-47B2-A5E6-434A8ED63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78F5E-46D4-4154-9708-91181C4F4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D246D-B06C-4D89-AEE7-4DC6067D4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FF633-475D-43D9-815B-038AA0D4A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ED0C5-4CDA-4B95-918C-F94AB1A06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8D0C0-33BC-48C4-B0B0-7F924CBDA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9D7D9-5469-4277-94B2-FEA23C38E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92B3-A34C-46E4-9E74-AA3264D6E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03B8A-D71E-4694-BFAB-5D34915D7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DF66E-492E-49BF-A5E7-8F7DC417D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D22FC-38AD-4B47-A146-B5B235BD4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8987C-0190-489A-9CD4-0888CA626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B3A51-1B6D-4D91-AA54-A0A7A885E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588E-73A1-4774-A134-EC948B92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3627E-C355-4C26-BBA7-EA7B2FE9C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699F-00CF-4B04-A9F4-DD6D9569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B350-4BF5-4B74-BA8C-DF6A9153A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BE449-CA22-4E8F-B56B-94CED5BCE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F4763-394B-4E86-885F-4EF708D5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41A3-6500-4275-9009-2B62110D3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cbcb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7150-B570-4574-84C2-E047D9397411}" type="slidenum">
              <a:rPr b="1" lang="en-US" sz="1200" spc="-1" strike="noStrike">
                <a:solidFill>
                  <a:srgbClr val="bcbcbc"/>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cbcb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ECD5-3DEE-434B-9739-A3580DCEC269}" type="slidenum">
              <a:rPr b="1" lang="en-US" sz="1200" spc="-1" strike="noStrike">
                <a:solidFill>
                  <a:srgbClr val="bcbcbc"/>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353880" y="566640"/>
            <a:ext cx="8240760" cy="2017800"/>
          </a:xfrm>
          <a:prstGeom prst="rect">
            <a:avLst/>
          </a:prstGeom>
          <a:ln w="0">
            <a:noFill/>
          </a:ln>
        </p:spPr>
      </p:pic>
      <p:sp>
        <p:nvSpPr>
          <p:cNvPr id="83" name="PlaceHolder 1"/>
          <p:cNvSpPr>
            <a:spLocks noGrp="1"/>
          </p:cNvSpPr>
          <p:nvPr>
            <p:ph type="subTitle"/>
          </p:nvPr>
        </p:nvSpPr>
        <p:spPr>
          <a:xfrm>
            <a:off x="-360" y="3285720"/>
            <a:ext cx="7010280" cy="16002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Guest Service</a:t>
            </a:r>
            <a:endParaRPr b="0" lang="en-US" sz="4400" spc="-1" strike="noStrike">
              <a:solidFill>
                <a:srgbClr val="ffffff"/>
              </a:solidFill>
              <a:latin typeface="Book Antiqu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pic>
        <p:nvPicPr>
          <p:cNvPr id="84" name="Picture 14" descr="j0197795[1]"/>
          <p:cNvPicPr/>
          <p:nvPr/>
        </p:nvPicPr>
        <p:blipFill>
          <a:blip r:embed="rId2"/>
          <a:stretch/>
        </p:blipFill>
        <p:spPr>
          <a:xfrm>
            <a:off x="5429160" y="2428920"/>
            <a:ext cx="3330720" cy="367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Listening:</a:t>
            </a:r>
            <a:r>
              <a:rPr b="0" lang="en-US" sz="2400" spc="-1" strike="noStrike">
                <a:solidFill>
                  <a:srgbClr val="9cb084"/>
                </a:solidFill>
                <a:latin typeface="Book Antiqua"/>
              </a:rPr>
              <a:t> </a:t>
            </a:r>
            <a:r>
              <a:rPr b="0" lang="en-US" sz="2400" spc="-1" strike="noStrike">
                <a:solidFill>
                  <a:srgbClr val="ffffff"/>
                </a:solidFill>
                <a:latin typeface="Book Antiqua"/>
              </a:rPr>
              <a:t>this is the only way a receiver can hear the message that the transmitter is sending, so employees can listen for subtle hints and signals a guest gives out during communication</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employee creates a comfort level when they listen, and letting the guest initiate the tone of the conversation also puts him/her at eas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ilure to listen properly can cause problem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even common listening errors are:</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ailure to concentrat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istening too hard</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Jumping the gun”</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agging behind the conversation</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ocusing too much on delivery or appeara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mitting</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dding</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Avoid jargon:</a:t>
            </a:r>
            <a:r>
              <a:rPr b="0" lang="en-US" sz="2400" spc="-1" strike="noStrike">
                <a:solidFill>
                  <a:srgbClr val="ffffff"/>
                </a:solidFill>
                <a:latin typeface="Book Antiqua"/>
              </a:rPr>
              <a:t> employees should avoid using industry jargon when the communicate with guest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ing hotel terms in conversation may not convey the intended messag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450720" y="268200"/>
            <a:ext cx="824256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unicating visually is as important as communicating verbally, as visual communication can reinforce what is being said verball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omplete delivery of guest service can be accomplished by incorporating both mean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rules for effective visual communication are:</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unicate with a smil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e aware of body languag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bserve the grooming standards</a:t>
            </a:r>
            <a:endParaRPr b="0" lang="en-US" sz="2000" spc="-1" strike="noStrike">
              <a:solidFill>
                <a:srgbClr val="ffffff"/>
              </a:solidFill>
              <a:latin typeface="Book Antiqua"/>
            </a:endParaRPr>
          </a:p>
          <a:p>
            <a:pPr lvl="1" marL="868320" indent="-28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2"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Communicate with a smile:</a:t>
            </a:r>
            <a:r>
              <a:rPr b="0" lang="en-US" sz="2400" spc="-1" strike="noStrike">
                <a:solidFill>
                  <a:srgbClr val="ffffff"/>
                </a:solidFill>
                <a:latin typeface="Book Antiqua"/>
              </a:rPr>
              <a:t> a genuine smile that accompanies a greeting or thank you reinforces the messag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miling at guests helps create a comfortable atmospher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Be aware of body language:</a:t>
            </a:r>
            <a:r>
              <a:rPr b="0" lang="en-US" sz="2400" spc="-1" strike="noStrike">
                <a:solidFill>
                  <a:srgbClr val="9cb084"/>
                </a:solidFill>
                <a:latin typeface="Book Antiqua"/>
              </a:rPr>
              <a:t> </a:t>
            </a:r>
            <a:r>
              <a:rPr b="0" lang="en-US" sz="2400" spc="-1" strike="noStrike">
                <a:solidFill>
                  <a:srgbClr val="ffffff"/>
                </a:solidFill>
                <a:latin typeface="Book Antiqua"/>
              </a:rPr>
              <a:t>observing guest body language is like listening with eyes, it can give the employee clues on how to communicate with the gues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0720" y="268200"/>
            <a:ext cx="8242560" cy="115884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on body language signals include the following:</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rossed arms may indicate a defensive postur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 guest who leans across the front desk during conversation may be aggressive </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trong and consistent eye contact may indicate confide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trong firm handshakes may also indicate confide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d eyes may indicate fatigue</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Observe appropriate grooming standards: </a:t>
            </a:r>
            <a:r>
              <a:rPr b="0" lang="en-US" sz="2400" spc="-1" strike="noStrike">
                <a:solidFill>
                  <a:srgbClr val="9cb084"/>
                </a:solidFill>
                <a:latin typeface="Book Antiqua"/>
              </a:rPr>
              <a:t> </a:t>
            </a:r>
            <a:r>
              <a:rPr b="0" lang="en-US" sz="2400" spc="-1" strike="noStrike">
                <a:solidFill>
                  <a:srgbClr val="ffffff"/>
                </a:solidFill>
                <a:latin typeface="Book Antiqua"/>
              </a:rPr>
              <a:t>hotel employees are viewed as an extension of the hotel so a guest’s perception of an employee can contribute to the guest’s overall perception of the hotel</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irst and often most long lasting perception a guest makes on an employee is the employee’s appearance, so most hotels have instituted grooming standard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 service continues with basic dutie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front office employee must have a good working knowledge of phone etiquette, and the common expectation in most hotels is that a phone must be answered within three ring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must also have a good knowledge of hotel facilities, outlets, activities and an awareness of their surroundings to assist them with answering the many questions guests may hav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rvice received from employees is one part of the guest experience, and in addition, many physical aspects of the hotel must function well to ensure the guest receives the whole produc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some point, one or both of these parts may break down</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olving a conflict to a guest’s satisfaction can “turn” around an unhappy guest and make him/her a satisfied gues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450720" y="268200"/>
            <a:ext cx="8285400" cy="115884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resolution is best accomplished by adhering to the visual and verbal rules of guest servic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t is assumed that if the employee is fully trained, the following rules should be followed to meet or exceed a guest’s expectations</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isten first</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ummaris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ake no excuses</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solve the problem</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ocument the conflic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450720" y="268200"/>
            <a:ext cx="8242560" cy="1158840"/>
          </a:xfrm>
          <a:prstGeom prst="rect">
            <a:avLst/>
          </a:prstGeom>
          <a:ln w="0">
            <a:noFill/>
          </a:ln>
        </p:spPr>
      </p:pic>
      <p:sp>
        <p:nvSpPr>
          <p:cNvPr id="86" name=""/>
          <p:cNvSpPr txBox="1"/>
          <p:nvPr/>
        </p:nvSpPr>
        <p:spPr>
          <a:xfrm>
            <a:off x="566280" y="2041200"/>
            <a:ext cx="8001000" cy="4267080"/>
          </a:xfrm>
          <a:prstGeom prst="rect">
            <a:avLst/>
          </a:prstGeom>
          <a:noFill/>
          <a:ln w="0">
            <a:noFill/>
          </a:ln>
        </p:spPr>
        <p:txBody>
          <a:bodyPr lIns="90000" rIns="90000" tIns="46800" bIns="46800"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rvice Standard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Guest Conflict Resolution</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mpowerment</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versity Awarenes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ternational Guest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nagement’s Role in Guest Service</a:t>
            </a:r>
            <a:endParaRPr b="0" lang="en-US" sz="3200" spc="-1" strike="noStrike">
              <a:solidFill>
                <a:srgbClr val="ffffff"/>
              </a:solidFill>
              <a:latin typeface="Book Antiqua"/>
            </a:endParaRPr>
          </a:p>
          <a:p>
            <a:pPr marL="547560" indent="-41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2" descr=""/>
          <p:cNvPicPr/>
          <p:nvPr/>
        </p:nvPicPr>
        <p:blipFill>
          <a:blip r:embed="rId1"/>
          <a:stretch/>
        </p:blipFill>
        <p:spPr>
          <a:xfrm>
            <a:off x="450720" y="268200"/>
            <a:ext cx="8242560" cy="115884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aining, experience, personality and other things contribute to an individual employee’s ability to satisfy a gues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 management must support that effor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e way management supports an employee’s ability to satisfy a guest is by integrating empowerment in all dutie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mpowerment</a:t>
            </a:r>
            <a:r>
              <a:rPr b="0" lang="en-US" sz="2400" spc="-1" strike="noStrike">
                <a:solidFill>
                  <a:srgbClr val="ffffff"/>
                </a:solidFill>
                <a:latin typeface="Book Antiqua"/>
              </a:rPr>
              <a:t> is defined as the ability and authority to satisfy guest complaints/requests within preset parameter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0720" y="268200"/>
            <a:ext cx="8242560" cy="115884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learn to implement empowerment techniques in how they communicate and that certain phrases and words should be avoide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are other ways of communicating the same message (see next slid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Rectangle 2" descr=""/>
          <p:cNvPicPr/>
          <p:nvPr/>
        </p:nvPicPr>
        <p:blipFill>
          <a:blip r:embed="rId1"/>
          <a:stretch/>
        </p:blipFill>
        <p:spPr>
          <a:xfrm>
            <a:off x="566640" y="298440"/>
            <a:ext cx="8016840" cy="1225440"/>
          </a:xfrm>
          <a:prstGeom prst="rect">
            <a:avLst/>
          </a:prstGeom>
          <a:ln w="0">
            <a:noFill/>
          </a:ln>
        </p:spPr>
      </p:pic>
      <p:graphicFrame>
        <p:nvGraphicFramePr>
          <p:cNvPr id="126" name=""/>
          <p:cNvGraphicFramePr/>
          <p:nvPr/>
        </p:nvGraphicFramePr>
        <p:xfrm>
          <a:off x="566640" y="1916280"/>
          <a:ext cx="8001000" cy="4086000"/>
        </p:xfrm>
        <a:graphic>
          <a:graphicData uri="http://schemas.openxmlformats.org/drawingml/2006/table">
            <a:tbl>
              <a:tblPr/>
              <a:tblGrid>
                <a:gridCol w="4000680"/>
                <a:gridCol w="40003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rases to Avoid</a:t>
                      </a:r>
                      <a:endParaRPr b="1"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rases to Use Instead</a:t>
                      </a:r>
                      <a:endParaRPr b="1"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9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I don’t know.”</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at is a good question, let me find out for you.”</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We can’t do that.”</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Well, I haven’t encountered this before, let me research it and find a resolution that you are happy with.”</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You have to.” </a:t>
                      </a:r>
                      <a:r>
                        <a:rPr b="0" i="1" lang="en-US" sz="1600" spc="-1" strike="noStrike">
                          <a:solidFill>
                            <a:srgbClr val="ffffff"/>
                          </a:solidFill>
                          <a:latin typeface="Verdana"/>
                        </a:rPr>
                        <a:t>or </a:t>
                      </a:r>
                      <a:r>
                        <a:rPr b="0" lang="en-US" sz="1600" spc="-1" strike="noStrike">
                          <a:solidFill>
                            <a:srgbClr val="ffffff"/>
                          </a:solidFill>
                          <a:latin typeface="Verdana"/>
                        </a:rPr>
                        <a:t>“This is hotel policy”</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Next time, here is how you can avoid this situation.” </a:t>
                      </a:r>
                      <a:r>
                        <a:rPr b="0" i="1" lang="en-US" sz="1600" spc="-1" strike="noStrike">
                          <a:solidFill>
                            <a:srgbClr val="ffffff"/>
                          </a:solidFill>
                          <a:latin typeface="Verdana"/>
                        </a:rPr>
                        <a:t>or</a:t>
                      </a:r>
                      <a:r>
                        <a:rPr b="0" lang="en-US" sz="1600" spc="-1" strike="noStrike">
                          <a:solidFill>
                            <a:srgbClr val="ffffff"/>
                          </a:solidFill>
                          <a:latin typeface="Verdana"/>
                        </a:rPr>
                        <a:t> “I think the best way to handle this would be…”</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0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No.”</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We are not able to reduce your rate but I </a:t>
                      </a:r>
                      <a:r>
                        <a:rPr b="0" lang="en-US" sz="1600" spc="-1" strike="noStrike" u="sng">
                          <a:solidFill>
                            <a:srgbClr val="ffffff"/>
                          </a:solidFill>
                          <a:uFillTx/>
                          <a:latin typeface="Verdana"/>
                        </a:rPr>
                        <a:t>am</a:t>
                      </a:r>
                      <a:r>
                        <a:rPr b="0" lang="en-US" sz="1600" spc="-1" strike="noStrike">
                          <a:solidFill>
                            <a:srgbClr val="ffffff"/>
                          </a:solidFill>
                          <a:latin typeface="Verdana"/>
                        </a:rPr>
                        <a:t> able to upgrade your room”</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at’s not my job.”</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e person who handles that is </a:t>
                      </a:r>
                      <a:r>
                        <a:rPr b="0" lang="en-US" sz="1600" spc="-1" strike="noStrike" u="sng">
                          <a:solidFill>
                            <a:srgbClr val="ffffff"/>
                          </a:solidFill>
                          <a:uFillTx/>
                          <a:latin typeface="Verdana"/>
                        </a:rPr>
                        <a:t>(name).</a:t>
                      </a:r>
                      <a:r>
                        <a:rPr b="0" lang="en-US" sz="1600" spc="-1" strike="noStrike">
                          <a:solidFill>
                            <a:srgbClr val="ffffff"/>
                          </a:solidFill>
                          <a:latin typeface="Verdana"/>
                        </a:rPr>
                        <a:t> Please let me get him/her.”</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Rectangle 2"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diversity of guests makes it vital that all hotel employees appreciate the differences in peopl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st reputable hotels will put their employees through </a:t>
            </a:r>
            <a:r>
              <a:rPr b="1" lang="en-US" sz="2400" spc="-1" strike="noStrike">
                <a:solidFill>
                  <a:srgbClr val="ffffff"/>
                </a:solidFill>
                <a:latin typeface="Book Antiqua"/>
              </a:rPr>
              <a:t>diversity training, </a:t>
            </a:r>
            <a:r>
              <a:rPr b="0" lang="en-US" sz="2400" spc="-1" strike="noStrike">
                <a:solidFill>
                  <a:srgbClr val="ffffff"/>
                </a:solidFill>
                <a:latin typeface="Book Antiqua"/>
              </a:rPr>
              <a:t>which teaches employees that they mast understand and appreciate the differences in peopl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lping the employees overcome stereotypes such as racism, sexism, ethnocentrism and others helps to create a comfortable environmen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0720" y="268200"/>
            <a:ext cx="8242560" cy="115884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hotel by nature is a “home away from home” to international guest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ing good customer service skills helps to put these visitors at eas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s should share a list of all multilingual staff with front office manager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re appropriate, extra collateral should be provided in the guest’s native tongu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erbal communication will be difficult and nonverbal communication can be difficult due to cultural differenc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2" descr=""/>
          <p:cNvPicPr/>
          <p:nvPr/>
        </p:nvPicPr>
        <p:blipFill>
          <a:blip r:embed="rId1"/>
          <a:stretch/>
        </p:blipFill>
        <p:spPr>
          <a:xfrm>
            <a:off x="281160" y="268200"/>
            <a:ext cx="8667720" cy="115884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agers should become involved in guest complaints only after an empowered desk agents attempted to resolve the issue firs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manager who involves themselves before the guest agent has a chance to resolve an issue defeats the purpose behind empowermen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me guests may simply prefer to address to a manager</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agers must lead by example by showing that complaints are not a burden, but an opportunity to improve servic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Rectangle 2" descr=""/>
          <p:cNvPicPr/>
          <p:nvPr/>
        </p:nvPicPr>
        <p:blipFill>
          <a:blip r:embed="rId1"/>
          <a:stretch/>
        </p:blipFill>
        <p:spPr>
          <a:xfrm>
            <a:off x="281160" y="165240"/>
            <a:ext cx="8807400" cy="132228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l complaints should be investigated, evaluated, and responded to</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f the Front Office Manager is unable to resolve the situation, it should be passed along to a more senior manager</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escalation of an issue can and often should go all the way to the general manage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450720" y="268200"/>
            <a:ext cx="8242560" cy="1158840"/>
          </a:xfrm>
          <a:prstGeom prst="rect">
            <a:avLst/>
          </a:prstGeom>
          <a:ln w="0">
            <a:noFill/>
          </a:ln>
        </p:spPr>
      </p:pic>
      <p:sp>
        <p:nvSpPr>
          <p:cNvPr id="13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guest service philosophy of a hotel should be communicated to constantly and consistentl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s communication should begin with the first day of employee orientation where all new employees should be given the hotel’s service philosoph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hotel’s guest service message can be summarised succinctly in the hotel’s </a:t>
            </a:r>
            <a:r>
              <a:rPr b="1" lang="en-US" sz="2400" spc="-1" strike="noStrike">
                <a:solidFill>
                  <a:srgbClr val="ffffff"/>
                </a:solidFill>
                <a:latin typeface="Book Antiqua"/>
              </a:rPr>
              <a:t>service mission statement</a:t>
            </a:r>
            <a:r>
              <a:rPr b="0" lang="en-US" sz="2400" spc="-1" strike="noStrike">
                <a:solidFill>
                  <a:srgbClr val="ffffff"/>
                </a:solidFill>
                <a:latin typeface="Book Antiqua"/>
              </a:rPr>
              <a:t>, which serves as the rule and/or goal of the guest service philosophy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396720" y="268200"/>
            <a:ext cx="8436240" cy="115884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mission statement should be posted in all service break areas, in the cafeteria and the change room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agers exhibiting ownership of the service mission motivate their employees by exampl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 service training continues beyond orientation and introduction of the service mission statement, and should be constan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rger hotel chains have complete divisions at a corporate level dedicated to creating and implementing guest service program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328680" y="268200"/>
            <a:ext cx="8566200" cy="1158840"/>
          </a:xfrm>
          <a:prstGeom prst="rect">
            <a:avLst/>
          </a:prstGeom>
          <a:ln w="0">
            <a:noFill/>
          </a:ln>
        </p:spPr>
      </p:pic>
      <p:sp>
        <p:nvSpPr>
          <p:cNvPr id="14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maller chains and independent hotels can take advantages of other resources such as:</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n-the-job training</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ole playing</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ercial videos</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Guest speakers</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inuing education/distance learning</a:t>
            </a:r>
            <a:endParaRPr b="0" lang="en-US" sz="2000" spc="-1" strike="noStrike">
              <a:solidFill>
                <a:srgbClr val="ffffff"/>
              </a:solidFill>
              <a:latin typeface="Book Antiqua"/>
            </a:endParaRPr>
          </a:p>
          <a:p>
            <a:pPr lvl="1" marL="868320" indent="-28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450720" y="268200"/>
            <a:ext cx="8242560" cy="115884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erhaps no duty of the rooms division is more vital that that of guest service. Guest satisfaction is crucial in maintaining loyalty. Guest loyalty ensures repeat business. With the wide range of hotel choices in the market today, repeat business ensures a steady revenue stream. All rooms division employees, and others considered front of house, must be aware of their impact of guest satisfactio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426960" y="268200"/>
            <a:ext cx="8393040" cy="1158840"/>
          </a:xfrm>
          <a:prstGeom prst="rect">
            <a:avLst/>
          </a:prstGeom>
          <a:ln w="0">
            <a:noFill/>
          </a:ln>
        </p:spPr>
      </p:pic>
      <p:sp>
        <p:nvSpPr>
          <p:cNvPr id="14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tivating employees to embody the service mission statement in their day-to-day duties helps ensure guest satisfaction</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good way to motivate is through guest feedback, and most hotels have some version of a comment card in the guest room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cards encourage guests to rate and/or rank the services received during his/her sta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y also solicit the names of employees that have impacted the guest’s stay</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Rectangle 2" descr=""/>
          <p:cNvPicPr/>
          <p:nvPr/>
        </p:nvPicPr>
        <p:blipFill>
          <a:blip r:embed="rId1"/>
          <a:stretch/>
        </p:blipFill>
        <p:spPr>
          <a:xfrm>
            <a:off x="291960" y="268200"/>
            <a:ext cx="8643960" cy="1158840"/>
          </a:xfrm>
          <a:prstGeom prst="rect">
            <a:avLst/>
          </a:prstGeom>
          <a:ln w="0">
            <a:noFill/>
          </a:ln>
        </p:spPr>
      </p:pic>
      <p:sp>
        <p:nvSpPr>
          <p:cNvPr id="14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or departments that are mentioned should be rewarded or recognised in some wa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employees can be proud of these rewards and a healthy competition can ensue to see which employees can get the most reward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hotel that clearly defines its guest service guidelines will be able to hold employees accountable, which helps to manage and evaluate them</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hotel chains have developed their own service standards and although the name of these programs differ, one theme is consistent amongst them all: </a:t>
            </a:r>
            <a:r>
              <a:rPr b="1" i="1" lang="en-US" sz="2400" spc="-1" strike="noStrike">
                <a:solidFill>
                  <a:srgbClr val="ffffff"/>
                </a:solidFill>
                <a:latin typeface="Book Antiqua"/>
              </a:rPr>
              <a:t>Guest service is paramount to hotel succes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 interaction can be verbal or visual and rooms division employees use both methods to accomplish guest servic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erbal communication allows for gaining insight into a gues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conversations may not be lengthy, but the aware employees can glean much about a guest’s personality in the course of a conversation</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most important verbal tools in ensuring guest satisfaction are perhaps the simplest and can often be overlooked by rooms division employees who are deeply involved in other task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2"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basic rules for verbal communication ar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e an appropriate greeti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ersonalise the conversation (use the customers nam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ank the guest</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sten</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void jargon</a:t>
            </a: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Use an appropriate greeting:</a:t>
            </a:r>
            <a:r>
              <a:rPr b="0" lang="en-US" sz="2400" spc="-1" strike="noStrike">
                <a:solidFill>
                  <a:srgbClr val="9cb084"/>
                </a:solidFill>
                <a:latin typeface="Book Antiqua"/>
              </a:rPr>
              <a:t> </a:t>
            </a:r>
            <a:r>
              <a:rPr b="0" lang="en-US" sz="2400" spc="-1" strike="noStrike">
                <a:solidFill>
                  <a:srgbClr val="ffffff"/>
                </a:solidFill>
                <a:latin typeface="Book Antiqua"/>
              </a:rPr>
              <a:t>employees should greet every guest appropriately whether in person or over the phone.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y should identify the time of day: “Good morning/afternoon/evening”.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greeting a guest over the phone, an employee should also include their name and department: “Good morning, front desk, this is John, how may I help you?” This reassures the guest that they have reached the appropriate departmen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Personalise the conversation:</a:t>
            </a:r>
            <a:r>
              <a:rPr b="0" lang="en-US" sz="2400" spc="-1" strike="noStrike">
                <a:solidFill>
                  <a:srgbClr val="9cb084"/>
                </a:solidFill>
                <a:latin typeface="Book Antiqua"/>
              </a:rPr>
              <a:t> </a:t>
            </a:r>
            <a:r>
              <a:rPr b="0" lang="en-US" sz="2400" spc="-1" strike="noStrike">
                <a:solidFill>
                  <a:srgbClr val="ffffff"/>
                </a:solidFill>
                <a:latin typeface="Book Antiqua"/>
              </a:rPr>
              <a:t>this helps to set a relaxed tone in the conversation, however using an appropriate title (i.e., Mr. or Ms.) is importan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uring check-in or checkout, the guest account will let the employee know the guest’s nam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phone systems will identify the guest’s name and room number, as will many POS system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s greeted by name are subtly reminded that the hotel values their business </a:t>
            </a:r>
            <a:r>
              <a:rPr b="0" lang="en-US" sz="2400" spc="-1" strike="noStrike">
                <a:solidFill>
                  <a:srgbClr val="9cb084"/>
                </a:solidFill>
                <a:latin typeface="Book Antiqua"/>
              </a:rPr>
              <a:t>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450720" y="268200"/>
            <a:ext cx="8242560" cy="115884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Thank the guest:</a:t>
            </a:r>
            <a:r>
              <a:rPr b="0" lang="en-US" sz="2400" spc="-1" strike="noStrike">
                <a:solidFill>
                  <a:srgbClr val="9cb084"/>
                </a:solidFill>
                <a:latin typeface="Book Antiqua"/>
              </a:rPr>
              <a:t> </a:t>
            </a:r>
            <a:r>
              <a:rPr b="0" lang="en-US" sz="2400" spc="-1" strike="noStrike">
                <a:solidFill>
                  <a:srgbClr val="ffffff"/>
                </a:solidFill>
                <a:latin typeface="Book Antiqua"/>
              </a:rPr>
              <a:t>thanking the guest in a sincere manner is also very importan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may conduct a variety of guest services in a day, and each of these transaction should be completed with a “thank you”</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anking a guest for staying at a hotel also implies that the hotel appreciates their busines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6:28:41Z</dcterms:created>
  <dc:creator>Chris Drzewucki</dc:creator>
  <dc:description/>
  <dc:language>en-US</dc:language>
  <cp:lastModifiedBy>robert</cp:lastModifiedBy>
  <dcterms:modified xsi:type="dcterms:W3CDTF">2011-04-11T09:13:35Z</dcterms:modified>
  <cp:revision>135</cp:revision>
  <dc:subject/>
  <dc:title>FRONT OFFICE OPERATIONS MANAGEMENT</dc:title>
</cp:coreProperties>
</file>